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97D-D7C4-4936-BA35-EF7EB471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2E6-AFCD-40AD-9321-957674F7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E62-F266-48BC-A478-6C8E748A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A6C-19BB-497D-AD74-9D0C8094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DE5-B45C-49F4-9C72-2A5E872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9B1-3FA0-4A8E-8ED6-7701DD0E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2DE-F705-4E20-A83D-79811D05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C12-7D97-418F-B17F-F41F0F51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1CB-88E2-47EB-8D27-EB41EEBA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347-6896-4E5D-8752-64708FB7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432-C359-4C3E-816B-3E2626F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D7A-81E0-468D-B381-ECC53D8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E61A-2D1A-4E09-AA03-B4E7CDAF5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53920" y="128520"/>
            <a:ext cx="6432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4400" spc="-1" strike="noStrike">
                <a:solidFill>
                  <a:srgbClr val="bbe0e3"/>
                </a:solidFill>
                <a:latin typeface="comic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еч на вратата Бог стои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що за нас умря;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да ни събере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отвед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47760" y="360"/>
            <a:ext cx="80553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знаци вред около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 тази истина вестят: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"Ще дойде скоро славний Княз."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ела ни да блест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34640" y="189720"/>
            <a:ext cx="674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да на Бога, да не сп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до последния с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ъдем будни и да бди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й да посрещнем Спа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02:58Z</dcterms:created>
  <dc:creator>TrifonTrifonow</dc:creator>
  <dc:description/>
  <dc:language>en-US</dc:language>
  <cp:lastModifiedBy>TrifonTrifonow</cp:lastModifiedBy>
  <dcterms:modified xsi:type="dcterms:W3CDTF">2005-11-23T21:16:10Z</dcterms:modified>
  <cp:revision>4</cp:revision>
  <dc:subject/>
  <dc:title>Slide 1</dc:title>
</cp:coreProperties>
</file>